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735-B6E7-4C41-90A1-DEAAA4C9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4BF-447C-4493-8313-0CC5ADA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64E63-1454-446C-86E3-C6A3458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4494A-A34C-49B8-BC03-3E20350D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6811A-E04C-4057-BC8E-0993DDB4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8088D-325C-46F8-A6CC-865D8B7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2D47-3245-417F-A961-3BC78D3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29DD1-EFCF-4C49-ADFA-EEF86DD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2C16B-2895-424B-9BD1-A30A011A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C65D-379A-4718-8101-BDB4002C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99B77-31DE-4EF1-8167-2B4B25E0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720E2-A24D-49E7-BF9C-701F45A5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11A-32C4-4F95-94C4-FBA89F3E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5F805-2986-4C63-94A6-9D22FFEC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954E6-B679-46AE-8A42-3A863C8C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32C01-7876-4A1D-900D-E3442276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9D2CD-0D5A-497F-B2E8-7F1F9A5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9A6C3-8125-4517-95FC-9008025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A8FAA-E295-4A4E-870D-8699E9B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866C9-702D-4209-80C1-C187633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6952E-AAE0-4595-A169-9AE37FD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D856E-0C08-4F76-BFA3-66840AE6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FD79C-AE2B-4A3C-9F35-CF80299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48D-6225-4FCA-B8A2-F451C5B2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15B4B-61F7-475D-9ACD-774A5B90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361BC-916A-4638-AB3E-317C347D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AB4F7-6200-4EB2-82AA-B4DE7C61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E1112-FAF5-4148-967C-64E5EE7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883F-BA07-40B7-96A1-FF95AF85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2B4AD-BBC7-4EC2-9E71-E7D75860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E941B-C3AD-47E1-A9E0-EFF5C0F9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CD4D9-412D-4AC8-A3B0-BA90A2F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CAD94-B1FE-44B8-A332-67F2057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09A33-14A0-4A75-8015-073D831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823-33E2-485A-831A-6D42AAE9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42F99-413A-4FD5-B42A-53B9C9C7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31342-7F06-43AD-AFC8-92748107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91EA0-72ED-41A0-A038-982B03BB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3EF6A-1D99-4F9D-AF37-B8A96BD8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64211-8AD7-47A0-9153-F9E283E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F8E8D-CFAD-4B8E-A7FB-3D143647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2D918-3A39-42DF-AF88-9E9AE23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96485-DAA8-4EB9-8608-95D20A02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61177-CBE1-4B78-92F7-7F38DD37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8EA9C-FFDF-4AA6-B240-E1406E5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98AF-F1F2-451C-982C-47ED306D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4A01A-2AC2-4191-88A0-713C1E7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9CBBC-3B22-4F39-B14F-0A09842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EBC60-6BFD-4455-997F-E524EE4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AD67B-27C0-489C-8A15-EDBEEB2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B7798-1126-4EF1-8B01-ABEC1A44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64CB8-4CBC-4A3C-8A06-B866A233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2E8AB-A95F-45BA-9923-35D3E7E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C4738-1454-4BC9-B7FC-7BCE01B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BD1F2-720E-4627-B791-1515C703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4EAE6-EDA9-4226-8C0F-C215E05E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4113-17C2-45A8-9592-38A06D1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B5779-274C-4962-A7BD-718E96E4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F7F91-D91E-492A-958F-DA0684D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05FB0-A1F1-4B61-A96F-5831AC3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F820B-2595-4901-9CE8-8B5E8AD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59C0A-2701-4C2F-92E0-2D7B10E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DC506-24C5-410C-B248-2D6CE8A7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D2C0A-4243-4E7C-B911-4ECA0452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6F6F0-B9FF-4D5D-8A03-05AC2D30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C80C8-83B9-4524-9F29-5052EA91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18002-868E-47B8-8C67-11386ED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55F-A645-4CF4-9F9D-A5F8A5E3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4E9E1-40E4-43CC-B844-4DF09D4A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BCAFD-ADA2-456D-8426-FAC9D75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57506-5036-4385-AABD-F73219EC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EFE51-77A8-4F1F-B9E0-510C563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514E7-72DD-4F0E-899C-4DA7C50F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BB055-19FB-4F5C-A5D7-11CE532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D0A4F-18F7-4080-915C-48A52379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97D3B-7813-482F-B69E-DE5A658C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631F8-6994-4364-A648-2848F856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6EE36-3998-41CB-A091-C6D9B1F7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D7D-18B6-43FF-B935-A991A13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C2220-C575-49F4-9E0E-8803477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1A1D3-644D-4886-9998-6B97C3F2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8C9B3-7DA2-4BDE-BB01-46A80A63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3D109-6602-4502-AA51-7BD9C84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6D830-5FCE-4EFD-B9DB-BA32D3A6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12D64-DCF5-49B0-B585-75B4623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CF91B-B25F-46F5-B73E-961C8AE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2B95D-00A3-4BD5-9E58-B3F2EDD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7F38C-0C05-4B1E-B71C-34090E3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E337A-E9FB-4BD3-8365-3B766D84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A67-D548-4D1E-A7C7-C2931212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23772-D4AF-4923-83F4-0565B8CB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E31CE-23C9-4D4B-AD79-3EE394AC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DDD95-6F92-4FE3-B770-DF7FBAC6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8FF9B-C6B2-40E4-8C67-22115549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57408-FD9F-49CD-B659-BCFB5B2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80989-F793-4AA1-B905-3B4FDCF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2C823-9C6C-40EB-BB4D-BB1E6E5C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8ADF0-FEDF-4725-A259-28FA96E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461C6-E365-4FE1-9027-6E1CF91D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D56C6-8D4D-4581-9AFD-8FE8617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C220-695A-4F18-A581-F623200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7CD88-A988-46B3-BA4C-7FFC421B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421F2-C694-4502-8D49-149E6570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5C103-6521-45B6-A7E7-56225347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FF649-BF32-4F92-B5BB-F4B2D8E2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9EF54-FDDD-488B-A129-7EAB3307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C738A-FC31-4D02-833E-78D9B80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4FA46-96DA-4371-9833-DF0CE8ED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CBB67-824C-4117-99AD-08BE2DC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46AB7-B67A-4768-BE38-0A05C0F4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59DFD-59B1-4259-8950-0335995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E29-4B3E-4C03-913B-C283C1D7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D5CC-9522-497D-9964-DB3109D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74241-E744-4DE6-8FD0-4B47380F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99F9F-148A-452A-B69D-21292833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E0E42-88D1-440A-AA96-53071FC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14523-0DF7-409D-B5BF-E57E6688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1BF1F-2113-4677-8F7C-34EC5799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E74EF-4124-4D1B-88DD-105C044B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8FF1C-BBFC-41CB-A727-85A6E93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4908F-8EF2-4E4F-BC8C-D3E2B05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2170F-8017-41CE-BB7A-2C809998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C9308-5C75-464E-AF5F-789AB512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8E30-5EAF-4003-BE36-57332B7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B8632-328A-40CF-BF54-E0ED571D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516C9-73ED-4D1B-8FE4-0CE968A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D4EEF-5B92-4BEB-922E-9AA50CA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AA004-79E4-44F9-803C-A1A56F6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105CD-06A7-4EEB-88AA-3EACDC08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8F36D-7A44-48D8-8659-FDB38946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0E8AE-2C51-45DA-9FA3-4B20D5F7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7D419-D380-413A-A249-EAFDCF6A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7FAFF-6290-4FBC-B026-3703DA7D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C8A79-1C02-4962-8585-25E1B00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E0AD-685D-4E0F-BD42-3CBE4FED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E2855-1932-46FE-A222-461D69C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6EDAC-4A57-4F58-83E4-00821061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AECE1-E12A-444B-97AE-74B3777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6908A-39BF-4096-8407-4A93C01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83DF9-B503-4595-B883-DEC3C96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A01A8-C3C2-4952-A83A-1F9CA35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49D79-8506-4728-AFED-DF242634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B853F-6FF0-4B20-9AC5-3537311C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AE6EB-219A-43C8-895F-748713CE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965BF-99DC-4923-8A8A-52949CF3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53B2-5525-4304-B231-104F0D0E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E7081-F670-4CFC-A603-23DE543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07A39B-C194-49D1-BCFD-F9FDB22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957C5-17EB-4C88-A996-884E131A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9C2C63-8DA4-4316-B3AA-E33818C8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D257A-B927-4F56-ACDC-359FB80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B8283-5689-4EE5-A1BC-456211D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8982C-EEDD-4E42-B8E7-22F89CD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A3207-C247-4602-B9F4-6D1036E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698F2-1D48-4993-B7F5-C0DF3725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AEBB2-842F-46FB-8996-F88346E6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8496-8B7B-46CD-A0AE-65DA8535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5D941-416F-4394-8D4E-3FAED3D4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01A5-0BBE-417B-9DDE-4C2DE891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E378-EBF1-4CD6-8786-8D5AEB03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5728-2D23-4542-B419-BEBDB29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4B65-A77D-4C93-A5AB-AAE78F1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0E27-9EA8-4408-AA26-1DD92DC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452-58B8-4C14-A2AB-C145454C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3EEF-6C9C-4A31-AA2A-7060D73D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7B0E-287C-42A8-B029-41E4639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150B-462B-45C4-ABA0-B905BA1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42AE-5801-4AF9-A2D2-1017ADA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73CB-A550-4B49-B94A-A57026FF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D231-ACEC-4E01-9A1D-44609DB2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EDA9-54A4-45A2-A979-752C2397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A27FA-153B-41A4-9720-710A66EB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CABD8-5D1D-4786-B308-96FD30D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449CE-C9CB-4401-8DEC-46247DB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035-D92A-45C2-993D-09D1DEB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853EA-6026-475B-930E-E91A067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F39E5-17B3-4B12-80C6-F8A59A1C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D815C-8B84-43B7-A292-7BF9A1A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8C844-73BD-4FE0-BEB4-524ED75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D8257-7021-4F6E-A9D3-AD60576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BF06C-E41F-404A-A64E-CE3A3B2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61B9D-202A-42BC-AD08-FB7022F9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E33AA-9FFF-4F9A-BEF6-8E1BECA0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787EE-4E10-4496-8B13-EBA9635B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202E-2E92-4F72-9104-104989A0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D07-50A1-4FA4-8D4E-C58637D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9819-7A77-4D3C-8D61-D009A539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BBF8-BC00-4E11-BC22-2093752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8311-F8A5-4434-BA9F-E39A3C9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A2EA-4C45-4D2C-BABE-ADD41926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A857A-36CE-44E2-8776-B8EC8AEC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BBE81-B982-4BC6-8015-C265B69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D723-D67B-48EB-85CC-353599C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AF5B-8394-4D02-95E3-141130C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1AC62-FC55-4BC0-B63E-1BB8CA3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12CF-FAD8-4061-A442-C5F55719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F0D-3699-4F33-9196-87E5DE2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8868-4842-4D00-96C4-14B38F43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341A-68BF-4C58-B49B-1CFDAE4A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A937-320B-4240-9D20-CA3FB35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23EBA-7ABA-45AA-B29A-0678FFB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7695-9B83-416D-833A-1B712B6E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9AA1-8974-4CFD-BDA3-ED2D58D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EE0A5-B6AA-4A9F-994C-5A34CDBF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129B-E810-40C0-AB59-7A2FB8B9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38DEE-D821-418D-8D54-C9BD198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EA528-B291-4824-962D-850D9F3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4B5-8EC9-43CE-85F2-DF14469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BD75A-208B-40F6-9512-2DB3D58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509B4-38F7-4FA0-831C-1F565DB1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F572-DCAD-4112-8064-EF566784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DEF2-B95F-4F2D-A57E-BA93FE7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4749-54CB-4A3B-91E8-68961075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38826-A725-491E-A075-28E09E9D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8989-231E-456C-A40F-C3D8B72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57BA-D5FD-434E-ABE7-08BED2F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78D3-83CE-4C7F-BBCC-7BBD7B1D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B546-B8F7-4DE9-9EB1-B4E2B63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60A-1640-4F92-8F1F-9F36DD6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012A-3D69-4DCA-8373-EB37353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1AF7-3486-4409-B58D-4928AFD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ADB80-00A1-4617-A28E-47EF0D8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5F0C-9A82-4FC2-B1F8-CCE4FE51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7A302-568B-4761-A8E5-9250F5C1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AD1CD-BE6D-46E9-AC33-B5ECDF0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265B-3128-40E7-A9C8-6D2BBF5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A3DBE-4657-4844-900E-54D0DE3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467A-E0F0-4EA8-A537-431EDB0F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03B9-5DF5-413B-954B-E7D15B0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5C9-699B-450B-915E-B598F14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BF11B-BCFD-4ADD-9BD2-DEA1C51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93187-D9F6-4A35-A8C9-07CDE65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00A11-3024-4433-A283-2860B42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55AE-E0F4-40FB-894D-F09D2C15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B316-F133-4FCB-80C8-223AE318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5F8A-200E-4B11-B828-17AE4CA3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7A59-1C9E-4E21-A791-96207DD5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319D7-274E-49DA-BAFF-72122E19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6E4F9-0DF7-494A-A132-DB0C543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2D408-3E71-44CC-AB5F-80E8240D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308-4173-4320-BCF9-5F92FC5EA1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0ED-DB16-444C-924B-100118697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3E3A-ACB7-463E-A5AC-13FFC3BBC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89A-395F-4E4D-8095-42E7A48DF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80E-B7CD-4E37-A4B8-5048134B2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A8A-C246-40F3-B654-69601EE63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A1A0-07E4-4934-A472-C996F7673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4F7-C8F1-4E70-AD5C-471226BB14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DD7-BB10-4929-AAEC-7F3FA538C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8A88-0FDD-4647-90F0-F141CDD66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8373-1D52-417D-B45D-482FF8856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BB5-F12F-4667-9CD0-789CBC556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5D6A-F179-47E0-A205-6E7176F39D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9CE-5F0E-46F4-863C-EB4324403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470-61F2-46D5-B44C-E779A472B0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EEF2-9FC7-41B2-BF0D-FDCB45CB6D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04F-175E-4D12-BB02-E6376A92F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D45-E225-4D4F-A48C-0A58B933E1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F9DD-8FB7-4425-9CDC-78C38F44C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49FC-EB20-40DB-829E-0D374D65C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32D5-390C-4C98-AE98-C7929F661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4A8F-0704-4148-B9DC-DE768B6E32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951C-16E4-4322-B639-AFBEA34FB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E1D-B139-4AEE-9269-B00FF080B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9F3-B2FC-4935-BA92-A5359250C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238B-F6DE-4284-8DA8-8CD9F3021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7B79-F63B-4F3B-8ACC-4F4509308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7BF-6DDD-4A72-8B8F-CC53E8EBB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964E-EFEA-4028-B357-2A230108FC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123-DABE-4845-AB98-FA60D6F98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4E8-4179-4FD9-ABAF-8146E39A9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5A0-7222-43BC-92F0-193EAF38C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56FF-0E35-42C9-B002-46878D35D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2901-A683-4337-AAA9-0C6D01153D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0EAE-EF32-425B-8675-122FDC0874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C59-462B-463F-AA3F-E167849045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DC22-B9A1-4B0C-B562-C23927247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882B-28B7-4F44-8BE5-913F5760A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5819"/>
          <p:cNvPicPr/>
          <p:nvPr/>
        </p:nvPicPr>
        <p:blipFill>
          <a:blip r:embed="rId1"/>
          <a:stretch/>
        </p:blipFill>
        <p:spPr>
          <a:xfrm>
            <a:off x="119160" y="1459080"/>
            <a:ext cx="8424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69633" descr=""/>
          <p:cNvPicPr/>
          <p:nvPr/>
        </p:nvPicPr>
        <p:blipFill>
          <a:blip r:embed="rId1"/>
          <a:stretch/>
        </p:blipFill>
        <p:spPr>
          <a:xfrm>
            <a:off x="390600" y="2128680"/>
            <a:ext cx="8362800" cy="2600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539640" y="2800440"/>
            <a:ext cx="453708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7993080" cy="503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539640" y="3726000"/>
            <a:ext cx="453708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813600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8136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68609" descr=""/>
          <p:cNvPicPr/>
          <p:nvPr/>
        </p:nvPicPr>
        <p:blipFill>
          <a:blip r:embed="rId1"/>
          <a:stretch/>
        </p:blipFill>
        <p:spPr>
          <a:xfrm>
            <a:off x="371520" y="816120"/>
            <a:ext cx="8400960" cy="57816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1512720"/>
            <a:ext cx="777708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539640" y="207972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539640" y="265572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39640" y="327492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755640" y="5084640"/>
            <a:ext cx="777708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539640" y="5608800"/>
            <a:ext cx="2376720" cy="3189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395280" y="5940360"/>
            <a:ext cx="8137440" cy="3193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468360" y="6299280"/>
            <a:ext cx="8137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385920" y="1805040"/>
            <a:ext cx="8372160" cy="32479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27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611280" y="3087720"/>
            <a:ext cx="3744720" cy="4856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539640" y="3654360"/>
            <a:ext cx="3745080" cy="486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2736720" cy="319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4716360" y="3078000"/>
            <a:ext cx="3745080" cy="4860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7"/>
          <a:stretch/>
        </p:blipFill>
        <p:spPr>
          <a:xfrm>
            <a:off x="4859280" y="3654360"/>
            <a:ext cx="3745080" cy="486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8"/>
          <a:stretch/>
        </p:blipFill>
        <p:spPr>
          <a:xfrm>
            <a:off x="900000" y="4537080"/>
            <a:ext cx="7559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195120" y="890640"/>
            <a:ext cx="8753760" cy="507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129672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51272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356000" y="249228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5651640" y="24922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2050920" y="294336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5651640" y="294336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1763640" y="343836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5651640" y="3438360"/>
            <a:ext cx="57600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1042920" y="4292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6084720" y="4960800"/>
            <a:ext cx="358920" cy="268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6012000" y="4653000"/>
            <a:ext cx="358560" cy="2682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7667640" y="4662360"/>
            <a:ext cx="358920" cy="5050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5288040" y="52578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8"/>
          <a:stretch/>
        </p:blipFill>
        <p:spPr>
          <a:xfrm>
            <a:off x="7885080" y="524844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9410" descr=""/>
          <p:cNvPicPr/>
          <p:nvPr/>
        </p:nvPicPr>
        <p:blipFill>
          <a:blip r:embed="rId1"/>
          <a:stretch/>
        </p:blipFill>
        <p:spPr>
          <a:xfrm>
            <a:off x="171360" y="861840"/>
            <a:ext cx="8801280" cy="5134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5992920" y="119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7596360" y="155736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6012000" y="191628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7956720" y="191628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1476360" y="227664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8"/>
          <a:stretch/>
        </p:blipFill>
        <p:spPr>
          <a:xfrm>
            <a:off x="8307360" y="295272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8244000" y="331308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0"/>
          <a:stretch/>
        </p:blipFill>
        <p:spPr>
          <a:xfrm>
            <a:off x="8253360" y="3716280"/>
            <a:ext cx="28908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1"/>
          <a:stretch/>
        </p:blipFill>
        <p:spPr>
          <a:xfrm>
            <a:off x="8244000" y="4159080"/>
            <a:ext cx="288720" cy="319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2"/>
          <a:stretch/>
        </p:blipFill>
        <p:spPr>
          <a:xfrm>
            <a:off x="8317080" y="4662360"/>
            <a:ext cx="288720" cy="3193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3"/>
          <a:stretch/>
        </p:blipFill>
        <p:spPr>
          <a:xfrm>
            <a:off x="2700360" y="5373720"/>
            <a:ext cx="28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58373" descr=""/>
          <p:cNvPicPr/>
          <p:nvPr/>
        </p:nvPicPr>
        <p:blipFill>
          <a:blip r:embed="rId1"/>
          <a:stretch/>
        </p:blipFill>
        <p:spPr>
          <a:xfrm>
            <a:off x="309600" y="1843200"/>
            <a:ext cx="8524800" cy="3171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4643280" y="2717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2124000" y="34099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900000" y="437508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57352" descr=""/>
          <p:cNvPicPr/>
          <p:nvPr/>
        </p:nvPicPr>
        <p:blipFill>
          <a:blip r:embed="rId1"/>
          <a:stretch/>
        </p:blipFill>
        <p:spPr>
          <a:xfrm>
            <a:off x="666720" y="1542960"/>
            <a:ext cx="7810560" cy="3772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2"/>
          <a:stretch/>
        </p:blipFill>
        <p:spPr>
          <a:xfrm>
            <a:off x="2278080" y="220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4"/>
          <a:stretch/>
        </p:blipFill>
        <p:spPr>
          <a:xfrm>
            <a:off x="7524720" y="220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5"/>
          <a:stretch/>
        </p:blipFill>
        <p:spPr>
          <a:xfrm>
            <a:off x="2411280" y="263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6"/>
          <a:stretch/>
        </p:blipFill>
        <p:spPr>
          <a:xfrm>
            <a:off x="4788000" y="256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7"/>
          <a:stretch/>
        </p:blipFill>
        <p:spPr>
          <a:xfrm>
            <a:off x="7658280" y="263700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8"/>
          <a:stretch/>
        </p:blipFill>
        <p:spPr>
          <a:xfrm>
            <a:off x="1258920" y="3789360"/>
            <a:ext cx="2233440" cy="503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9"/>
          <a:stretch/>
        </p:blipFill>
        <p:spPr>
          <a:xfrm>
            <a:off x="1187280" y="4365720"/>
            <a:ext cx="2233800" cy="503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0"/>
          <a:stretch/>
        </p:blipFill>
        <p:spPr>
          <a:xfrm>
            <a:off x="1187280" y="4888080"/>
            <a:ext cx="2233800" cy="5029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1"/>
          <a:stretch/>
        </p:blipFill>
        <p:spPr>
          <a:xfrm>
            <a:off x="5724360" y="3798720"/>
            <a:ext cx="2735280" cy="3193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12"/>
          <a:stretch/>
        </p:blipFill>
        <p:spPr>
          <a:xfrm>
            <a:off x="5724360" y="4149720"/>
            <a:ext cx="2735280" cy="318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13"/>
          <a:stretch/>
        </p:blipFill>
        <p:spPr>
          <a:xfrm>
            <a:off x="5651640" y="4508640"/>
            <a:ext cx="273528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14"/>
          <a:stretch/>
        </p:blipFill>
        <p:spPr>
          <a:xfrm>
            <a:off x="5651640" y="4869000"/>
            <a:ext cx="2735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56324" descr=""/>
          <p:cNvPicPr/>
          <p:nvPr/>
        </p:nvPicPr>
        <p:blipFill>
          <a:blip r:embed="rId1"/>
          <a:stretch/>
        </p:blipFill>
        <p:spPr>
          <a:xfrm>
            <a:off x="466560" y="1014480"/>
            <a:ext cx="8210880" cy="5438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826920" y="1662120"/>
            <a:ext cx="2881440" cy="523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684360" y="2243160"/>
            <a:ext cx="2881080" cy="5238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6556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5"/>
          <a:stretch/>
        </p:blipFill>
        <p:spPr>
          <a:xfrm>
            <a:off x="611280" y="3151080"/>
            <a:ext cx="165564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6"/>
          <a:stretch/>
        </p:blipFill>
        <p:spPr>
          <a:xfrm>
            <a:off x="5219640" y="142236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7"/>
          <a:stretch/>
        </p:blipFill>
        <p:spPr>
          <a:xfrm>
            <a:off x="5219640" y="177336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8"/>
          <a:stretch/>
        </p:blipFill>
        <p:spPr>
          <a:xfrm>
            <a:off x="5148360" y="2133720"/>
            <a:ext cx="288108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9"/>
          <a:stretch/>
        </p:blipFill>
        <p:spPr>
          <a:xfrm>
            <a:off x="755640" y="450864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0"/>
          <a:stretch/>
        </p:blipFill>
        <p:spPr>
          <a:xfrm>
            <a:off x="755640" y="486900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1"/>
          <a:stretch/>
        </p:blipFill>
        <p:spPr>
          <a:xfrm>
            <a:off x="755640" y="5229360"/>
            <a:ext cx="2881440" cy="5047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2"/>
          <a:stretch/>
        </p:blipFill>
        <p:spPr>
          <a:xfrm>
            <a:off x="3924360" y="4724280"/>
            <a:ext cx="1942920" cy="5050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3"/>
          <a:stretch/>
        </p:blipFill>
        <p:spPr>
          <a:xfrm>
            <a:off x="4140360" y="531036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14"/>
          <a:stretch/>
        </p:blipFill>
        <p:spPr>
          <a:xfrm>
            <a:off x="6659640" y="4743360"/>
            <a:ext cx="1942920" cy="5050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5"/>
          <a:stretch/>
        </p:blipFill>
        <p:spPr>
          <a:xfrm>
            <a:off x="6732720" y="537372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16"/>
          <a:stretch/>
        </p:blipFill>
        <p:spPr>
          <a:xfrm>
            <a:off x="6804000" y="5950080"/>
            <a:ext cx="1943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55300" descr=""/>
          <p:cNvPicPr/>
          <p:nvPr/>
        </p:nvPicPr>
        <p:blipFill>
          <a:blip r:embed="rId1"/>
          <a:stretch/>
        </p:blipFill>
        <p:spPr>
          <a:xfrm>
            <a:off x="1071720" y="1162080"/>
            <a:ext cx="7000560" cy="4533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114640"/>
            <a:ext cx="35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3529080" cy="505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547640" y="3078000"/>
            <a:ext cx="3529080" cy="505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5148360" y="4302000"/>
            <a:ext cx="352908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5148360" y="4653000"/>
            <a:ext cx="35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5076720" y="5013360"/>
            <a:ext cx="352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4276" descr=""/>
          <p:cNvPicPr/>
          <p:nvPr/>
        </p:nvPicPr>
        <p:blipFill>
          <a:blip r:embed="rId1"/>
          <a:stretch/>
        </p:blipFill>
        <p:spPr>
          <a:xfrm>
            <a:off x="195120" y="952560"/>
            <a:ext cx="8753760" cy="5429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2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611280" y="2243160"/>
            <a:ext cx="52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684360" y="2575080"/>
            <a:ext cx="52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684360" y="2933640"/>
            <a:ext cx="525600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684360" y="4610160"/>
            <a:ext cx="7991280" cy="47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611280" y="5238720"/>
            <a:ext cx="7991280" cy="474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684360" y="575316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611280" y="6111720"/>
            <a:ext cx="8064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2231" descr=""/>
          <p:cNvPicPr/>
          <p:nvPr/>
        </p:nvPicPr>
        <p:blipFill>
          <a:blip r:embed="rId1"/>
          <a:stretch/>
        </p:blipFill>
        <p:spPr>
          <a:xfrm>
            <a:off x="343080" y="2414520"/>
            <a:ext cx="8458200" cy="2028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468360" y="3170160"/>
            <a:ext cx="7991280" cy="474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539640" y="3697200"/>
            <a:ext cx="8064720" cy="319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539640" y="4033800"/>
            <a:ext cx="806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8:00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